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EC0-C79B-4A37-8D18-0303D462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CB3-A459-41D4-9AEA-65F073FE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46C9D-693D-42E4-8159-E8E959E0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9E54E-C044-413D-BE69-FB43FF92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057FE-9063-4C75-B673-9117D086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81437-BD09-40CB-816F-8C69514F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9EAF8-25D3-435A-8BD6-EEB5FB1A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2D7E5-536B-484F-BB62-86023B76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07C0A-C503-4A15-BB63-AB0904ED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E73C1-3D4F-47D6-B120-3BECB61B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5A6BC-91D8-40F5-8F33-28B4CCD8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126BA-B057-4EEA-95E0-27463FB9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770-B9F2-4282-A363-73B456AB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CDCE6-7A0D-458B-9C3F-6D18129D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71920-D434-4143-A171-E8CF77AA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8BA11-B330-4500-B7E3-93A97563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CD58F-90FB-43BE-BF3E-9908AC28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4CA56-3759-4EB5-8B6E-AA3F7B27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D4489-8D72-44B1-8A75-3E555D80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71193-06DA-4C4D-8E96-305A77C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3ED16-64B7-4093-A46C-EAFCCF38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6C2E0-07B3-4791-AD92-5AED5B47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F711D-9D3F-4BEE-BC5F-0567EF99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496-A02D-4DE9-8E7C-DF439474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DD7B0-E130-4890-9332-1245A062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B3C78-9D0B-4640-80A5-8D6C47BE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5D9A4-F6DC-4E70-8FD9-9CF642FD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F97ED-DD0D-4C96-B518-6F64B958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1D2DC-B2C0-4801-957F-FE2019E9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91130-B48C-4B66-8B91-83818407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43F8C-8101-4BE6-8ECF-241D2C02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53EFF-29FD-442D-83D3-7933783E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44A5C-EF62-477A-87D3-E213521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C266C-6A32-4375-B090-093ED751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62C4-8A4F-4340-9EF3-0F7D23C0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338D0-2B30-48C4-A5EE-3B8EF93A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57796-008F-45B3-88AF-521CD488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D856C-9377-4F41-AE18-A91A7B02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E830C-0C6A-499C-8D77-EDC84CFD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E8A30-729A-4604-B517-A214BBC3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75EBD-22C0-4DB4-AD89-61DD18A1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FD79E-743E-4ED2-AAC7-ADC75248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CEE37-D744-47BF-8BFD-E3C33075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6AF35-DE9A-40B5-8016-12ADB6DB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83092-FD4C-4CB3-A171-021CDC68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F17F-4FFF-45D9-830B-4CDD57CD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3C89C-8050-462E-B400-42B13E9A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DF183-08DA-41AB-9EF3-68EFFED0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11738-AC85-42F0-A473-C22E67BE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C6F45-8C86-4411-9D3D-F1DE5CF4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1A920-4309-4E07-B68F-0F96E378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C3F4F-5DAA-42B0-A5E8-6C39B806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53202-1E0B-4742-BC49-1547E983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3EB0E-6C6D-48CF-94BF-5CFD41E1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60240-1B0B-4895-BCE4-C69B81DE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496C6-B3DE-4268-8842-390A9B23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861D-8850-4EDF-95BB-F8565661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11A1B-57B4-4BA4-88BB-B996695F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4FA76-25C2-46B3-8375-1B42329C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DF926-CF9A-4CB0-BAC7-306AE4C0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0894F-BCFC-43B8-B4D3-E48F1720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59018-53DB-4B09-8D48-4BA8E538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3BCEF-660A-41B3-AD19-83D46CD0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C80BB-7292-4C8E-8BEC-0E7E10FF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DAE21-3E80-4968-8E54-86FD8093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26C98-4BE6-4692-B518-510918C0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CC3B0-B4EE-4E02-B70A-68E8C708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9746-C670-410B-AEFB-47DFB84B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338F60-207E-4417-83D8-0C6107F7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55981-977B-46FC-BC48-F9B4987A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AC474-ADA3-4945-9346-F9C8AE9D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B9DF6-1FFC-4855-9E41-D31824EF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DD293-BFAC-430E-9DDB-6C0B1EEB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4C00A-1129-4916-8033-28DB8EC9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A1AB6-F692-412C-B2AB-44FCDB4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BEB22-F156-416E-83AA-3B77DB29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0B7B9-1B86-4AC6-A92C-88AE7C75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58CE15-0441-43C4-BBAB-FD4D65BB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27BB-1651-4F30-A388-BCB0A5F8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36DC3-E3FF-49AD-880B-5FA29C98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F4930-8CFA-48A2-888C-1D3DDFAF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DD5736-18AC-4C2C-8714-D2D7DE4D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70667-826C-4C4B-BA84-1CEAEF07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42EED-D865-4B9C-8099-155BDBE5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82D46-3D9C-465B-AF29-0B892FA7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FCB8D-44BD-4CE2-8566-78CF1069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0BAFDC-5F87-44C1-86F9-88F224D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35B5B-A190-4EF7-8B04-BD8A62F2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B14D1-361D-4796-B37A-DD5AD40E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99D4-3F4D-4F44-8076-4903A2E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BA334-FE60-4B81-BBA1-A94C98D9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1221E-8055-44DD-A2FF-68F039FD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31540-8D31-4C42-8C37-D2CD4B83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02D0A-AC0C-47D1-B415-D00C8253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337CD-CBE8-42BA-A458-F2C80DBE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BFCF2-F1B0-4824-98F8-031DEFEF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41C3E2-3A8D-425B-8766-E92C56C7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82A034-828A-435C-B92C-B55EA4C0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ECF3B5-6168-4AAF-B35E-7CEF9AA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8C2FC-89EC-4DCC-AF4B-BB74F742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3BDF-464F-4D4B-BA88-75F4C856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A6CED-8F0E-43A6-8371-811D5613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53F1A-2AE6-43C2-910A-A41A0601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B1AA0-6F61-4F8F-8BCE-27EA38CD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1608B-C133-48B5-A1A1-3E70960F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FBFC3-4329-463C-B7BB-FF5F8430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FB842-5C6F-4BEE-8896-C8BFEEF7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3F062-8797-4285-A686-E71EA4A2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2DFAAE-3A30-47DD-86F9-CC8DBFFF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6FB3E8-0CFE-4BAE-B2D3-68CDD150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E2692-FBCD-4A4C-90CD-23C1D224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8E2-015D-48A2-9FD7-7900949F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E015-C376-48E1-985D-5FDB68EB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812890-7DC0-4831-800C-69B65BEE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3FD9F-CABE-4739-B5B5-0056329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624DE-AFB9-4FED-83E4-F651EE1B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B840E-8234-481A-853D-06E94C64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51FE3C-0071-4127-BFB4-9F2073D5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B53F3-B0F0-4AD8-A6CF-7AF03F9C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B2361-BA79-404B-AC09-2894B6D2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73C8F-1B6D-47F0-B88B-C72E4239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86DD4E-11A8-4D98-96D5-BEB72AE4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CC3F7C-F957-44BA-A2AA-51F63E18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E9EA-5E70-4D99-8F88-B733274F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9689EB-DF02-4106-A898-BEFC9AB0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0005C7-E5A9-4533-A419-27D92769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61601-CA0F-4112-A92D-F2C5BEDB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D3A90-F546-4C20-B7A7-5B8765A5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A4626C-0E3E-4586-9E89-EE64C2C1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C5CE9-41BA-472F-AAA8-EDAFCBE9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AC5744-614A-4FB6-B52D-51FFF4F7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55A19C-CF31-4F0C-AD27-485A87CF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CABDE-BE34-48D1-8E54-428FE4D6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56E58A-7069-433D-A8FD-45676268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BECA-D237-405A-A677-BFC6A0E8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7463A-B1CF-4B6C-BEF0-51B6944D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C1098A-7DD1-48AD-8077-251D7852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1BFC8-2F23-430B-B907-88E08398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BA496-AC77-49C0-AE68-40652A89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C2AFF5-E775-4D05-BF25-506EFE3C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FBCC5A-F2D6-4E1B-8AC6-9EBA50F7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41CBC8-F66F-4A82-9E4F-03E1A2D2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E8695B-62E1-4AB9-88BF-BC166EF6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BB5A2D-2B62-4BB8-9AB7-39ECB24B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EFA1B5-EA92-418D-95F7-701D7AE9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AE29-CCDB-4758-87AC-EF8490D6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87C3B2-9713-4CE8-B3DF-2F62EDB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31D0A4-3F7A-473D-9958-A9582172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040A82-8A37-4FBA-B4E0-D15E2603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D3BEAA-FB0F-44BE-BFDD-9CAB2985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99FC9B-78A0-47D3-9BCD-27E39FBA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E8FA1A-0DDE-41CC-ADD0-9C206B8A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A9522B-6C3B-4DE4-A0BF-1C4ADCCD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F5FE72-F7D5-4C42-809B-2DA14609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803965-3A8A-4C79-939D-DCA99A1D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097A16-D922-48EC-BCC6-7E3A3BEB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EAE7-91F3-4535-8219-01BC1E3A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F1BE11-E1D1-4501-8F7B-AF99C877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8DE4A-7585-45CF-9F99-A02C82C6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71A8A-0286-4053-B051-8E56F28C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63CC-F1E5-4EA9-8D78-AFBE2873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A62F6-F501-4ABF-9E00-BBC744D0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8AB0-0124-4C6C-9B7F-B988DE98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4EF-6128-422A-94F6-6BA0D937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438E-44D4-4CC0-95B1-BBD95414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BAC23-8F2B-4693-BB1A-A76755D7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78D4-69E6-4426-8F6C-5C872DDE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DBB9-3571-4644-AB8C-99784858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272F3-F50D-4744-A558-D80995CA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8B91-C54E-4CEB-BF67-5765E267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1D1B-57F2-4E7F-945B-F2C6C4A7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8FA8F-1F0D-4EF0-B270-3DA1A592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960CE-A507-4937-AFD2-B9B7E595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E63AB-0299-4CA6-ACE7-80BE31BC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080-738A-44B5-8851-5C3A4ED5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466EF-3EE1-4217-9E97-C0017272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BBC41-3280-4EC1-8658-387D16E3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A5BF5-A07F-45A6-BE61-CE911C1F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A7A09-348B-4B1A-9384-5590FE1C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B6884-CDE3-4BCA-A460-D8FE48C3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89C84A-5DB0-4D10-811B-49EFBCD1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94D3DE-517C-4545-900C-ADE0C4B1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BCBD10-C298-4F56-9C99-918DCC36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C5FAA-0F6D-4E2F-8CCC-06445BAC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33DF2-8373-4FF1-A419-D9E2D05A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478-3F1B-4277-A11A-A375CB3C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D88EE-FB21-47A1-A3C2-EA263BA6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8C73C-DDD5-4736-9121-0847523D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4B652-2FD4-4EF2-8D04-6FC5B208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4E3E2-926A-407C-BBBE-AD92E725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E395E-ED58-4BA1-AAF0-DAB686E1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4102F-141E-44B9-A6D4-CED138D8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7356D-BF99-4A57-A6A1-FCFDAB62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C1A99-BC22-479B-BF14-9B38E238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C2C41-2FD6-403B-96D8-3989D947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056E1-B6ED-47AB-97C8-E0A58E45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525-0194-4E36-BF7A-59091E1F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F399-012A-485F-88CE-07D9D122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7841-DDAC-4D70-89AF-311B7724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51FE7-EDD2-4B74-948A-340BC060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C538D-6034-4EA6-BD1E-F5FD1929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4E666-6FFE-4ABC-931D-167BB015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D896E-2645-4773-823A-D1ED606C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256EC-0F42-40B8-86E9-E7F6B70B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69A39-9DB4-4204-9529-96974834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48AC6-7812-41AE-ADE1-306BD125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530D6-1AF6-467A-A8D8-3E377061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F66-1492-4197-9ADB-2A4B49FB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3443-B328-42D4-BC4D-0E010444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DBBB1-A4D1-41A7-A617-D9BD6143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8A0F9-9DCA-4E84-B098-9255E3DD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8FFA4-6EEF-4D4E-A21C-B48673F7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84F44-5CC8-4DD1-98C7-7ED7779B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69D38-EE0A-49FA-892C-EEC9CC75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FB3F7-2251-458C-B2D0-6ABF2F46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0FCB6-6767-468A-A82D-66C7E8C2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F8BFF-681B-494E-A34B-4175DF5B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E9EDB-35AD-4CC4-AE63-B0C28690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3C0-99D7-4251-B66B-31A55547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F1AB9-DC16-4E09-BCEA-CFA8EEBE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93451-620B-42CF-B1D4-CC04F5E5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CB90A-F5AC-4688-9899-9EBB1292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A6543-7708-4EB9-BF41-77623F6B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49AE7-AD2F-48F8-8400-C98DC860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A41C1-95BA-4DD9-BB0F-7FB91C80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F8D56-8840-429E-A0ED-4A984625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AE4A8-10E3-44CA-9829-D06FA70A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3785C-6D3F-4A17-9303-E70CEEED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DDA6E-E4FA-415F-BD8E-0C105FD8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98C-9BC9-4C39-934C-4E8665E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7DA02-801C-4027-A3B4-5153854B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0285A-3945-46C9-AC3D-F34CF904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FD93C-A016-4BD4-9E13-1647F48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F4BA0-47FC-4B8F-92D2-07B39422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7CA8F-BA13-456B-9A2C-D9B12A68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84E9E-0CF9-47BB-87C0-7579C57B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CE8A1-CC3A-4448-8532-5D39EE7B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66673-7562-486D-AAED-49CE5664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F3C14-C8EE-4283-B811-0A49558D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DE465-1D99-4980-9CEC-7324D0C1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3E55-3D0B-4E37-B25C-0EC9E81200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1068-AB9F-482F-9B10-B2D2E2BF0C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20CB-70A7-4BED-B469-588AD0766B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3504-A6EA-474C-A5A2-5EA882FB2B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F77B-2F06-4BCA-9D8D-60D9C9EE3E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813D-35BD-4EAD-B12E-22CE912373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0F35-D8E1-4907-A013-AF2880D41E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02B2-2728-4714-AECD-7A792F58A6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7089-2147-4E8F-A344-8982B421D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4487-7E99-4AAA-B5D8-8FD19092F0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04CB-0D98-4F3A-857F-846C1BBD60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FEF6-4699-4BCD-8CA3-9263C901B4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9832-ADCA-4A45-91D6-20DFF659FF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60A8-0744-43F6-910E-B1CB3EB20F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FCE0-A385-43CB-BAA9-BA1A1593B8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3F64-390D-4997-81AA-332FA77508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0505-F446-4126-89D4-6EE6047D1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0320-680C-4690-A689-D399028DCB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B1D6-F081-4A97-8AC9-2500CFA9EB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0BB9-9335-41F2-A4BA-7E4810CD4F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4053-13F4-49AE-8C7A-C798EE9521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5BD4-5CC1-4F5A-A534-EDEC34A928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0AB5-2CB3-4A88-8369-D604E1AF9C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F4CC-BB34-4399-9D7D-D7B43697AB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2654-1582-45B3-972F-C4A4F8C379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4956-4A82-44FE-9A04-214B195857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51CF-3819-46B2-8FB7-5E4A579BB4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0796-150A-4D08-A487-9E55DE2CE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1950-707A-4543-9528-77457FD068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C6D8-54A6-4289-AEFB-9819D56113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2A93-2EED-49AD-A578-B004AC18F3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11B4-D9C6-4E8D-9567-575F2888CE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55D3-92DE-4DE7-9C0B-3C18DD6DA1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51DB-E48F-467A-BD0F-5868C36388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9EBD-9C80-4F47-9F4E-AABF9406EF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9669-ECBC-4130-90A6-A418D1F896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7AFB-2B2F-4283-9925-95F76440EA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B562-BF13-454E-A4ED-08A5D44024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1" descr="QQ图片20200803155819"/>
          <p:cNvPicPr/>
          <p:nvPr/>
        </p:nvPicPr>
        <p:blipFill>
          <a:blip r:embed="rId1"/>
          <a:stretch/>
        </p:blipFill>
        <p:spPr>
          <a:xfrm>
            <a:off x="119160" y="1459080"/>
            <a:ext cx="84247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69633" descr=""/>
          <p:cNvPicPr/>
          <p:nvPr/>
        </p:nvPicPr>
        <p:blipFill>
          <a:blip r:embed="rId1"/>
          <a:stretch/>
        </p:blipFill>
        <p:spPr>
          <a:xfrm>
            <a:off x="390600" y="2128680"/>
            <a:ext cx="8362800" cy="26006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539640" y="2800440"/>
            <a:ext cx="4537080" cy="318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7993080" cy="503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539640" y="3726000"/>
            <a:ext cx="4537080" cy="3189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539640" y="4076640"/>
            <a:ext cx="8136000" cy="3193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468360" y="4437000"/>
            <a:ext cx="8136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1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68609" descr=""/>
          <p:cNvPicPr/>
          <p:nvPr/>
        </p:nvPicPr>
        <p:blipFill>
          <a:blip r:embed="rId1"/>
          <a:stretch/>
        </p:blipFill>
        <p:spPr>
          <a:xfrm>
            <a:off x="371520" y="816120"/>
            <a:ext cx="8400960" cy="57816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755640" y="1512720"/>
            <a:ext cx="7777080" cy="476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539640" y="2079720"/>
            <a:ext cx="7777440" cy="476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539640" y="2655720"/>
            <a:ext cx="7777440" cy="476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539640" y="3274920"/>
            <a:ext cx="7777440" cy="476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755640" y="5084640"/>
            <a:ext cx="7777080" cy="476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539640" y="5608800"/>
            <a:ext cx="2376720" cy="3189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395280" y="5940360"/>
            <a:ext cx="8137440" cy="3193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9"/>
          <a:stretch/>
        </p:blipFill>
        <p:spPr>
          <a:xfrm>
            <a:off x="468360" y="6299280"/>
            <a:ext cx="8137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8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7585" descr=""/>
          <p:cNvPicPr/>
          <p:nvPr/>
        </p:nvPicPr>
        <p:blipFill>
          <a:blip r:embed="rId1"/>
          <a:stretch/>
        </p:blipFill>
        <p:spPr>
          <a:xfrm>
            <a:off x="385920" y="1805040"/>
            <a:ext cx="8372160" cy="32479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2736720" cy="31896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611280" y="3087720"/>
            <a:ext cx="3744720" cy="4856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539640" y="3654360"/>
            <a:ext cx="3745080" cy="4860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5"/>
          <a:stretch/>
        </p:blipFill>
        <p:spPr>
          <a:xfrm>
            <a:off x="1835280" y="4221000"/>
            <a:ext cx="2736720" cy="3193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6"/>
          <a:stretch/>
        </p:blipFill>
        <p:spPr>
          <a:xfrm>
            <a:off x="4716360" y="3078000"/>
            <a:ext cx="3745080" cy="4860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7"/>
          <a:stretch/>
        </p:blipFill>
        <p:spPr>
          <a:xfrm>
            <a:off x="4859280" y="3654360"/>
            <a:ext cx="3745080" cy="4860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8"/>
          <a:stretch/>
        </p:blipFill>
        <p:spPr>
          <a:xfrm>
            <a:off x="900000" y="4537080"/>
            <a:ext cx="75596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0428" descr=""/>
          <p:cNvPicPr/>
          <p:nvPr/>
        </p:nvPicPr>
        <p:blipFill>
          <a:blip r:embed="rId1"/>
          <a:stretch/>
        </p:blipFill>
        <p:spPr>
          <a:xfrm>
            <a:off x="195120" y="890640"/>
            <a:ext cx="8753760" cy="5076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1296720" cy="3193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1512720" cy="319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2124000" y="198900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1403280" y="2492280"/>
            <a:ext cx="432000" cy="319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3276720" y="249228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4356000" y="2492280"/>
            <a:ext cx="432000" cy="3193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5651640" y="2492280"/>
            <a:ext cx="431640" cy="3193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2050920" y="2943360"/>
            <a:ext cx="432000" cy="318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5651640" y="294336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1763640" y="343836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5651640" y="3438360"/>
            <a:ext cx="576000" cy="3193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3"/>
          <a:stretch/>
        </p:blipFill>
        <p:spPr>
          <a:xfrm>
            <a:off x="1042920" y="42926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4"/>
          <a:stretch/>
        </p:blipFill>
        <p:spPr>
          <a:xfrm>
            <a:off x="6084720" y="4960800"/>
            <a:ext cx="358920" cy="2685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5"/>
          <a:stretch/>
        </p:blipFill>
        <p:spPr>
          <a:xfrm>
            <a:off x="6012000" y="4653000"/>
            <a:ext cx="358560" cy="2682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6"/>
          <a:stretch/>
        </p:blipFill>
        <p:spPr>
          <a:xfrm>
            <a:off x="7667640" y="4662360"/>
            <a:ext cx="358920" cy="5050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7"/>
          <a:stretch/>
        </p:blipFill>
        <p:spPr>
          <a:xfrm>
            <a:off x="5288040" y="525780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8"/>
          <a:stretch/>
        </p:blipFill>
        <p:spPr>
          <a:xfrm>
            <a:off x="7885080" y="5248440"/>
            <a:ext cx="5763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9410" descr=""/>
          <p:cNvPicPr/>
          <p:nvPr/>
        </p:nvPicPr>
        <p:blipFill>
          <a:blip r:embed="rId1"/>
          <a:stretch/>
        </p:blipFill>
        <p:spPr>
          <a:xfrm>
            <a:off x="171360" y="861840"/>
            <a:ext cx="8801280" cy="5134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5992920" y="1197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7596360" y="1557360"/>
            <a:ext cx="50292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6012000" y="1916280"/>
            <a:ext cx="288720" cy="318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6"/>
          <a:stretch/>
        </p:blipFill>
        <p:spPr>
          <a:xfrm>
            <a:off x="7956720" y="1916280"/>
            <a:ext cx="28872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7"/>
          <a:stretch/>
        </p:blipFill>
        <p:spPr>
          <a:xfrm>
            <a:off x="1476360" y="227664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8"/>
          <a:stretch/>
        </p:blipFill>
        <p:spPr>
          <a:xfrm>
            <a:off x="8307360" y="295272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9"/>
          <a:stretch/>
        </p:blipFill>
        <p:spPr>
          <a:xfrm>
            <a:off x="8244000" y="3313080"/>
            <a:ext cx="288720" cy="3189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0"/>
          <a:stretch/>
        </p:blipFill>
        <p:spPr>
          <a:xfrm>
            <a:off x="8253360" y="3716280"/>
            <a:ext cx="289080" cy="3193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1"/>
          <a:stretch/>
        </p:blipFill>
        <p:spPr>
          <a:xfrm>
            <a:off x="8244000" y="4159080"/>
            <a:ext cx="288720" cy="3193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2"/>
          <a:stretch/>
        </p:blipFill>
        <p:spPr>
          <a:xfrm>
            <a:off x="8317080" y="4662360"/>
            <a:ext cx="288720" cy="3193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3"/>
          <a:stretch/>
        </p:blipFill>
        <p:spPr>
          <a:xfrm>
            <a:off x="2700360" y="5373720"/>
            <a:ext cx="289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58373" descr=""/>
          <p:cNvPicPr/>
          <p:nvPr/>
        </p:nvPicPr>
        <p:blipFill>
          <a:blip r:embed="rId1"/>
          <a:stretch/>
        </p:blipFill>
        <p:spPr>
          <a:xfrm>
            <a:off x="309600" y="1843200"/>
            <a:ext cx="8524800" cy="3171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3"/>
          <a:stretch/>
        </p:blipFill>
        <p:spPr>
          <a:xfrm>
            <a:off x="4643280" y="2717640"/>
            <a:ext cx="503280" cy="3193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4"/>
          <a:stretch/>
        </p:blipFill>
        <p:spPr>
          <a:xfrm>
            <a:off x="2124000" y="340992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5"/>
          <a:stretch/>
        </p:blipFill>
        <p:spPr>
          <a:xfrm>
            <a:off x="900000" y="4375080"/>
            <a:ext cx="5032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图片 57352" descr=""/>
          <p:cNvPicPr/>
          <p:nvPr/>
        </p:nvPicPr>
        <p:blipFill>
          <a:blip r:embed="rId1"/>
          <a:stretch/>
        </p:blipFill>
        <p:spPr>
          <a:xfrm>
            <a:off x="666720" y="1542960"/>
            <a:ext cx="7810560" cy="37720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2"/>
          <a:stretch/>
        </p:blipFill>
        <p:spPr>
          <a:xfrm>
            <a:off x="2278080" y="2205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3"/>
          <a:stretch/>
        </p:blipFill>
        <p:spPr>
          <a:xfrm>
            <a:off x="5076720" y="2205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4"/>
          <a:stretch/>
        </p:blipFill>
        <p:spPr>
          <a:xfrm>
            <a:off x="7524720" y="2205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5"/>
          <a:stretch/>
        </p:blipFill>
        <p:spPr>
          <a:xfrm>
            <a:off x="2411280" y="263700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6"/>
          <a:stretch/>
        </p:blipFill>
        <p:spPr>
          <a:xfrm>
            <a:off x="4788000" y="2565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7"/>
          <a:stretch/>
        </p:blipFill>
        <p:spPr>
          <a:xfrm>
            <a:off x="7658280" y="2637000"/>
            <a:ext cx="502920" cy="31896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8"/>
          <a:stretch/>
        </p:blipFill>
        <p:spPr>
          <a:xfrm>
            <a:off x="1258920" y="3789360"/>
            <a:ext cx="2233440" cy="5032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9"/>
          <a:stretch/>
        </p:blipFill>
        <p:spPr>
          <a:xfrm>
            <a:off x="1187280" y="4365720"/>
            <a:ext cx="2233800" cy="5032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10"/>
          <a:stretch/>
        </p:blipFill>
        <p:spPr>
          <a:xfrm>
            <a:off x="1187280" y="4888080"/>
            <a:ext cx="2233800" cy="50292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11"/>
          <a:stretch/>
        </p:blipFill>
        <p:spPr>
          <a:xfrm>
            <a:off x="5724360" y="3798720"/>
            <a:ext cx="2735280" cy="31932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12"/>
          <a:stretch/>
        </p:blipFill>
        <p:spPr>
          <a:xfrm>
            <a:off x="5724360" y="4149720"/>
            <a:ext cx="2735280" cy="3189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13"/>
          <a:stretch/>
        </p:blipFill>
        <p:spPr>
          <a:xfrm>
            <a:off x="5651640" y="4508640"/>
            <a:ext cx="2735280" cy="318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14"/>
          <a:stretch/>
        </p:blipFill>
        <p:spPr>
          <a:xfrm>
            <a:off x="5651640" y="4869000"/>
            <a:ext cx="2735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56324" descr=""/>
          <p:cNvPicPr/>
          <p:nvPr/>
        </p:nvPicPr>
        <p:blipFill>
          <a:blip r:embed="rId1"/>
          <a:stretch/>
        </p:blipFill>
        <p:spPr>
          <a:xfrm>
            <a:off x="466560" y="1014480"/>
            <a:ext cx="8210880" cy="5438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826920" y="1662120"/>
            <a:ext cx="2881440" cy="5238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3"/>
          <a:stretch/>
        </p:blipFill>
        <p:spPr>
          <a:xfrm>
            <a:off x="684360" y="2243160"/>
            <a:ext cx="2881080" cy="5238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65564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5"/>
          <a:stretch/>
        </p:blipFill>
        <p:spPr>
          <a:xfrm>
            <a:off x="611280" y="3151080"/>
            <a:ext cx="1655640" cy="3193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6"/>
          <a:stretch/>
        </p:blipFill>
        <p:spPr>
          <a:xfrm>
            <a:off x="5219640" y="1422360"/>
            <a:ext cx="2881440" cy="318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7"/>
          <a:stretch/>
        </p:blipFill>
        <p:spPr>
          <a:xfrm>
            <a:off x="5219640" y="1773360"/>
            <a:ext cx="288144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8"/>
          <a:stretch/>
        </p:blipFill>
        <p:spPr>
          <a:xfrm>
            <a:off x="5148360" y="2133720"/>
            <a:ext cx="2881080" cy="318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9"/>
          <a:stretch/>
        </p:blipFill>
        <p:spPr>
          <a:xfrm>
            <a:off x="755640" y="4508640"/>
            <a:ext cx="288144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0"/>
          <a:stretch/>
        </p:blipFill>
        <p:spPr>
          <a:xfrm>
            <a:off x="755640" y="4869000"/>
            <a:ext cx="2881440" cy="3189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11"/>
          <a:stretch/>
        </p:blipFill>
        <p:spPr>
          <a:xfrm>
            <a:off x="755640" y="5229360"/>
            <a:ext cx="2881440" cy="5047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12"/>
          <a:stretch/>
        </p:blipFill>
        <p:spPr>
          <a:xfrm>
            <a:off x="3924360" y="4724280"/>
            <a:ext cx="1942920" cy="5050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13"/>
          <a:stretch/>
        </p:blipFill>
        <p:spPr>
          <a:xfrm>
            <a:off x="4140360" y="531036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14"/>
          <a:stretch/>
        </p:blipFill>
        <p:spPr>
          <a:xfrm>
            <a:off x="6659640" y="4743360"/>
            <a:ext cx="1942920" cy="5050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15"/>
          <a:stretch/>
        </p:blipFill>
        <p:spPr>
          <a:xfrm>
            <a:off x="6732720" y="5373720"/>
            <a:ext cx="1942920" cy="504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16"/>
          <a:stretch/>
        </p:blipFill>
        <p:spPr>
          <a:xfrm>
            <a:off x="6804000" y="5950080"/>
            <a:ext cx="1943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55300" descr=""/>
          <p:cNvPicPr/>
          <p:nvPr/>
        </p:nvPicPr>
        <p:blipFill>
          <a:blip r:embed="rId1"/>
          <a:stretch/>
        </p:blipFill>
        <p:spPr>
          <a:xfrm>
            <a:off x="1071720" y="1162080"/>
            <a:ext cx="7000560" cy="4533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547640" y="2114640"/>
            <a:ext cx="352908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476360" y="2492280"/>
            <a:ext cx="3529080" cy="5050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547640" y="3078000"/>
            <a:ext cx="3529080" cy="505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5148360" y="4302000"/>
            <a:ext cx="3529080" cy="319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5148360" y="4653000"/>
            <a:ext cx="3529080" cy="318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5076720" y="5013360"/>
            <a:ext cx="3529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4276" descr=""/>
          <p:cNvPicPr/>
          <p:nvPr/>
        </p:nvPicPr>
        <p:blipFill>
          <a:blip r:embed="rId1"/>
          <a:stretch/>
        </p:blipFill>
        <p:spPr>
          <a:xfrm>
            <a:off x="195120" y="952560"/>
            <a:ext cx="8753760" cy="54291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52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611280" y="2243160"/>
            <a:ext cx="52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4"/>
          <a:stretch/>
        </p:blipFill>
        <p:spPr>
          <a:xfrm>
            <a:off x="684360" y="2575080"/>
            <a:ext cx="5256000" cy="318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5"/>
          <a:stretch/>
        </p:blipFill>
        <p:spPr>
          <a:xfrm>
            <a:off x="684360" y="2933640"/>
            <a:ext cx="5256000" cy="319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6"/>
          <a:stretch/>
        </p:blipFill>
        <p:spPr>
          <a:xfrm>
            <a:off x="684360" y="4610160"/>
            <a:ext cx="7991280" cy="474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7"/>
          <a:stretch/>
        </p:blipFill>
        <p:spPr>
          <a:xfrm>
            <a:off x="611280" y="5238720"/>
            <a:ext cx="7991280" cy="474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8"/>
          <a:stretch/>
        </p:blipFill>
        <p:spPr>
          <a:xfrm>
            <a:off x="684360" y="5753160"/>
            <a:ext cx="8064360" cy="3189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9"/>
          <a:stretch/>
        </p:blipFill>
        <p:spPr>
          <a:xfrm>
            <a:off x="611280" y="6111720"/>
            <a:ext cx="80643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2231" descr=""/>
          <p:cNvPicPr/>
          <p:nvPr/>
        </p:nvPicPr>
        <p:blipFill>
          <a:blip r:embed="rId1"/>
          <a:stretch/>
        </p:blipFill>
        <p:spPr>
          <a:xfrm>
            <a:off x="343080" y="2414520"/>
            <a:ext cx="8458200" cy="2028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468360" y="3170160"/>
            <a:ext cx="7991280" cy="474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539640" y="3697200"/>
            <a:ext cx="8064720" cy="3193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539640" y="4033800"/>
            <a:ext cx="8064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3T08:00:2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